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632-5B67-451E-8336-D04C30A2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451-379B-4D50-B645-B69EC2E3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3C8-3E02-4EC9-9858-38DEABBA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3E5-DF85-4477-A9E9-FA7BBAF1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415-A411-4688-AC2B-22BE7760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83B-4E80-432C-B9A5-A5686366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4A7-5616-49F6-9D30-6B732E6D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B21-64DD-47F4-9EF7-6E583AFD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F18-0BBC-40EB-9034-67434181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D02-384B-4A58-9905-05C44030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A4C-F9AA-49B9-8CD6-3F4ADEF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02C-A4E2-4B1F-A608-A3EEE9FF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F0F5-902C-488A-96A5-5F9A437394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4"/>
          <p:cNvSpPr/>
          <p:nvPr/>
        </p:nvSpPr>
        <p:spPr>
          <a:xfrm>
            <a:off x="5357880" y="585612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, in the presen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71680" y="12142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common prepositions – remember they have different meanings with differ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857160" y="197496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 (6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 (6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ς (17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 (9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 (2752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ωπιον (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357880" y="21146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way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357880" y="2757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357880" y="3357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357880" y="39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357880" y="4595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out of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357880" y="5214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43208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ω (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 (8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ως (1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 (47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 the tim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, on the basi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357880" y="4672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857160" y="1432080"/>
            <a:ext cx="42865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 (46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 (1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 (3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 (4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be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357880" y="4672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ound, approxim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ning,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5357880" y="5915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857160" y="168912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ς (7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 (12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ερ (1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 (22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5357880" y="1828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, to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357880" y="24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gether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357880" y="3071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3700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behal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4309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357880" y="4929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, at the hand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571680" y="12524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leven compou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1857240"/>
            <a:ext cx="42861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βλεπω (2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υω (6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βαλλω (81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καλεω (3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οικεω (4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καλεω (10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λαμβανω (4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929040" y="1996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up, receive 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29040" y="2639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t free, divorc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929040" y="324000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ve out, cast out, throw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929040" y="3868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 upon,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929040" y="44798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well, inhabi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943440" y="507204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hort, request, comfort, en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929040" y="5729400"/>
            <a:ext cx="54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1000080" y="1071720"/>
            <a:ext cx="42861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ιπατεω (9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κυνεω (6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 (5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αγω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643280" y="121140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 abou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643280" y="18543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643280" y="24541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ather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643280" y="3083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42960" y="37861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two question words and the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1000080" y="4467240"/>
            <a:ext cx="4286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ως (10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υ (4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, οὐκ, οὐχ (160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786200" y="46101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4800600" y="5257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4843440" y="5886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20:28:29Z</dcterms:created>
  <dc:creator>Sarah</dc:creator>
  <dc:description/>
  <dc:language>en-US</dc:language>
  <cp:lastModifiedBy>Sarah</cp:lastModifiedBy>
  <dcterms:modified xsi:type="dcterms:W3CDTF">2009-06-29T09:58:42Z</dcterms:modified>
  <cp:revision>27</cp:revision>
  <dc:subject/>
  <dc:title>Slide 1</dc:title>
</cp:coreProperties>
</file>